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FC6-90FC-4893-8C2F-64B703A7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993-935D-4791-852D-AE251C6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6F5-0650-456D-8263-96926B4F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19E-BE9C-4244-9533-BF6639DF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E212-DACA-4011-8FF3-538B883B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378C-4183-4F79-AD8B-20C53BE3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D2FC-1B55-4E16-B882-081D7798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7F01-0C55-4E41-833B-C3D4CFD5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2764-89A5-40AD-A178-56739808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C009-3A41-41BD-A507-843A5567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7300-08E2-4388-B94C-549B52D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557-06A0-4C12-A158-4FCAC4D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9179-8254-4D50-BC13-50FFF947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ED2-7DF2-45A4-8E3E-B00359B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4243-2178-42D6-80F3-010F034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F50A-A339-4FC1-949C-4882246D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3543-A5EC-42BB-8932-3DFFDB77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9C2-0BAE-4B94-89A9-53D590BF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437-3ACA-4A20-90D4-3BC8F4C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5B4-F5EB-4E16-B0D5-B93AEECE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ED9-F2EF-447D-8A5D-6BB7B539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B69-C94F-4445-AE1F-0202C7F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2BA-6A1D-4B47-89C0-5975325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B4F-428A-4DAA-90FB-21C534F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A5E-FCE2-4A3E-97D3-A896F4A9E9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F3D-DFAF-4C62-B5B4-7312EE09B9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san Zimmerman and Chryse Hutch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on picture of the mind: sensory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aders create a wide range of visual, auditory, and other sensory images as they read, and they become emotionally involved with what they re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connections: background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aders use their relevant prior knowledge before, during and after reading to enhance their understanding of what they’re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Why, what, where, who and how: questio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indicate eng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are fundamental to being a human be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are a key ingredient in building superb r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Weaving sense into words: drawing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ring involves forming a best guess about what the ‘evidence’ (words, sentences, and paragraphs) means; speculating about what’s to come; and then drawing conclusions about what was read to deepen the meaning of the literal words on the p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using inference you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aborate upon what you r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predi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connecting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onalize what you read to build a deeper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&amp;6.  What’s important and why: determi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ce and synthesiz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ortant aspect of comprehension is being able to distinguish between the nonessential information and the essential inform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ng importance has to do with knowing why you’re reading and then making decisions about which information or ideas are most critical to understanding the overall meaning of the piec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.  Cultivating Awareness: Fix-up strateg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 back and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r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 Sometimes that is enough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ad ah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clarify mea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what it is you don’t understand: word sentence or concep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ea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If it is a sentence in a picture book, look at the pictur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nd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Look at the initial sound first, then slide onto the n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lf-correc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The ability to recognize their mistake and fix it u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Developing the child’s awareness to ask for clarificatio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edic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Think about what the book/story may be about or what is going to happen n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it is a concept, try to summarize the story up to the confusing spot. If that doesn’t clear it up, maybe you need to build more background knowled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2:40:33Z</dcterms:created>
  <dc:creator>mulcahy_cam</dc:creator>
  <dc:description/>
  <dc:language>en-US</dc:language>
  <cp:lastModifiedBy>Teacher</cp:lastModifiedBy>
  <dcterms:modified xsi:type="dcterms:W3CDTF">2010-08-26T01:04:31Z</dcterms:modified>
  <cp:revision>8</cp:revision>
  <dc:subject/>
  <dc:title>7 Keys to comprehension</dc:title>
</cp:coreProperties>
</file>